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EC6-FBB6-49FC-87B7-5325C956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2A6-218A-4ED2-BDCB-7480F372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A01-476C-423E-A94D-BAD59A27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67C-B053-4EB6-A919-0798A4E9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D017-296F-4BB6-9979-B5009A2D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E3C1-49ED-41D1-AC03-CE1DFDBA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CB05-4F56-491F-B3AE-39639403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4ED-3E6B-49E5-99F3-E9E9AD2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79A1-1593-49DE-9E3A-43E8BFAD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1209-9B07-4505-9423-80FFB94D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5D40-8786-4DC8-9521-8CB994E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E2E-1993-4383-BD71-571A19EF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1BA6-51F6-4452-AA26-290B0928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7E62-7217-4A29-B2DF-91047C2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B1DF-09FA-4C6E-AB9D-36933D08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B4FD-37AC-49DB-A91C-EE632C14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6458-E6C4-4454-9869-9D48D045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6B85-A25C-4190-A78A-185B93BD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0934-58A5-41F0-991A-5FD199C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A421-F250-46A3-8D66-094B5E62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3A93-961E-4FEF-B94F-5ED5E869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E1EA-1D5E-44F0-B884-BF95883E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DE9-02C4-4D27-B09B-119B2EA9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F941-2C84-4A24-BEFB-3B1AD6A6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B6AB-E514-429F-AF23-2EF04704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EAF2-E29E-4222-954E-F150175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0FCE-3BDB-46DB-A634-67C440F7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32CA-9899-4F91-817A-D365F73D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C592-83F5-4978-AC92-C8D38305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9870-FDE8-475B-85E4-9DFB9BCA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CF6-D3E8-440E-BEFE-A669A44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54E-5082-4662-BED5-1CF426F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5C5-3DE6-41E4-BD68-A11BBC1C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650-91A8-4420-9565-7E864EAF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DE0-0AAD-4A13-AD62-630761F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82D-64EB-4F62-9CCE-3EA6C84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FFF36A2-0595-422E-9801-AD8B8CBF3A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B5CB602-ED23-4807-ADDE-60F89B4DEF8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45A64BF4-DBB0-43F4-9503-12693EDDF21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7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26370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Lesson 19 I Like Frui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7440" y="4446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冀教版小学英语三年级下册第四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324080" y="620640"/>
            <a:ext cx="147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on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3080" y="2060640"/>
            <a:ext cx="150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tw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162864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th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83120" y="3573360"/>
            <a:ext cx="14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f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4508640"/>
            <a:ext cx="130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f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4365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s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72360" y="3357720"/>
            <a:ext cx="18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sev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4653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91120" y="6033960"/>
            <a:ext cx="152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n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15240" y="5661000"/>
            <a:ext cx="120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Comic Sans MS"/>
              </a:rPr>
              <a:t>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189000"/>
            <a:ext cx="4297320" cy="2519280"/>
            <a:chOff x="0" y="189000"/>
            <a:chExt cx="4297320" cy="25192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293920" y="189000"/>
              <a:ext cx="200340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0" y="189000"/>
              <a:ext cx="2003400" cy="25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572000" y="189000"/>
            <a:ext cx="1343160" cy="1366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1417680" cy="144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278000" cy="1297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012000" y="189000"/>
            <a:ext cx="1347480" cy="1368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643280" y="1628640"/>
            <a:ext cx="1347840" cy="1368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91840" y="2492280"/>
            <a:ext cx="270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Comic Sans MS"/>
              </a:rPr>
              <a:t>e</a:t>
            </a:r>
            <a:r>
              <a:rPr b="1" lang="zh-CN" sz="6000" spc="-1" strike="noStrike">
                <a:solidFill>
                  <a:srgbClr val="007a77"/>
                </a:solidFill>
                <a:latin typeface="Comic Sans MS"/>
              </a:rPr>
              <a:t>le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04440" y="3357720"/>
            <a:ext cx="273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Comic Sans MS"/>
              </a:rPr>
              <a:t>tw</a:t>
            </a:r>
            <a:r>
              <a:rPr b="1" lang="zh-CN" sz="60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1" lang="zh-CN" sz="6000" spc="-1" strike="noStrike">
                <a:solidFill>
                  <a:srgbClr val="007a77"/>
                </a:solidFill>
                <a:latin typeface="Comic Sans MS"/>
              </a:rPr>
              <a:t>l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4560" y="4221000"/>
            <a:ext cx="332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Comic Sans MS"/>
              </a:rPr>
              <a:t>th</a:t>
            </a:r>
            <a:r>
              <a:rPr b="1" lang="zh-CN" sz="6000" spc="-1" strike="noStrike">
                <a:solidFill>
                  <a:srgbClr val="ff3300"/>
                </a:solidFill>
                <a:latin typeface="Comic Sans MS"/>
              </a:rPr>
              <a:t>ir</a:t>
            </a:r>
            <a:r>
              <a:rPr b="1" lang="zh-CN" sz="6000" spc="-1" strike="noStrike">
                <a:solidFill>
                  <a:srgbClr val="007a77"/>
                </a:solidFill>
                <a:latin typeface="Comic Sans MS"/>
              </a:rPr>
              <a:t>t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3640" y="5084640"/>
            <a:ext cx="353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Comic Sans MS"/>
              </a:rPr>
              <a:t>fourt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44120" y="5851440"/>
            <a:ext cx="273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Comic Sans MS"/>
              </a:rPr>
              <a:t>f</a:t>
            </a:r>
            <a:r>
              <a:rPr b="1" lang="zh-CN" sz="60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1" lang="zh-CN" sz="6000" spc="-1" strike="noStrike">
                <a:solidFill>
                  <a:srgbClr val="007a77"/>
                </a:solidFill>
                <a:latin typeface="Comic Sans MS"/>
              </a:rPr>
              <a:t>ft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28720" y="2421000"/>
            <a:ext cx="23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se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98640" y="3284640"/>
            <a:ext cx="163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67160" y="4221000"/>
            <a:ext cx="22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98080" y="5013360"/>
            <a:ext cx="17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fo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480" y="5851440"/>
            <a:ext cx="159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Comic Sans MS"/>
              </a:rPr>
              <a:t>f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-2664000" y="4948200"/>
            <a:ext cx="2664000" cy="1909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-2603520" y="0"/>
            <a:ext cx="2603520" cy="1866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9144000" y="0"/>
            <a:ext cx="2603520" cy="1866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9144000" y="1844640"/>
            <a:ext cx="2603520" cy="1866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635280" y="6858000"/>
            <a:ext cx="2603520" cy="1866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543480" y="2859120"/>
            <a:ext cx="191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312800" y="1484280"/>
            <a:ext cx="2733480" cy="1368360"/>
            <a:chOff x="4312800" y="1484280"/>
            <a:chExt cx="2733480" cy="1368360"/>
          </a:xfrm>
        </p:grpSpPr>
        <p:sp>
          <p:nvSpPr>
            <p:cNvPr id="210" name=""/>
            <p:cNvSpPr/>
            <p:nvPr/>
          </p:nvSpPr>
          <p:spPr>
            <a:xfrm>
              <a:off x="4427640" y="1484280"/>
              <a:ext cx="2520720" cy="1368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12800" y="1628640"/>
              <a:ext cx="2733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7a77"/>
                  </a:solidFill>
                  <a:latin typeface="Comic Sans MS"/>
                </a:rPr>
                <a:t>twelv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0000" y="981000"/>
            <a:ext cx="3530520" cy="1368360"/>
            <a:chOff x="450000" y="981000"/>
            <a:chExt cx="3530520" cy="1368360"/>
          </a:xfrm>
        </p:grpSpPr>
        <p:sp>
          <p:nvSpPr>
            <p:cNvPr id="213" name=""/>
            <p:cNvSpPr/>
            <p:nvPr/>
          </p:nvSpPr>
          <p:spPr>
            <a:xfrm>
              <a:off x="539640" y="981000"/>
              <a:ext cx="3384720" cy="1368360"/>
            </a:xfrm>
            <a:prstGeom prst="ellipse">
              <a:avLst/>
            </a:prstGeom>
            <a:solidFill>
              <a:srgbClr val="e1f9a5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0000" y="1197000"/>
              <a:ext cx="353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7a77"/>
                  </a:solidFill>
                  <a:latin typeface="Comic Sans MS"/>
                </a:rPr>
                <a:t>fourtee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43280" y="5013360"/>
            <a:ext cx="2781360" cy="1512720"/>
            <a:chOff x="2843280" y="5013360"/>
            <a:chExt cx="2781360" cy="1512720"/>
          </a:xfrm>
        </p:grpSpPr>
        <p:sp>
          <p:nvSpPr>
            <p:cNvPr id="216" name=""/>
            <p:cNvSpPr/>
            <p:nvPr/>
          </p:nvSpPr>
          <p:spPr>
            <a:xfrm>
              <a:off x="2924280" y="5013360"/>
              <a:ext cx="2700360" cy="151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43280" y="5302080"/>
              <a:ext cx="2781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7a77"/>
                  </a:solidFill>
                  <a:latin typeface="Comic Sans MS"/>
                </a:rPr>
                <a:t>fiftee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061640" y="3284640"/>
            <a:ext cx="2719800" cy="1079640"/>
            <a:chOff x="1061640" y="3284640"/>
            <a:chExt cx="2719800" cy="1079640"/>
          </a:xfrm>
        </p:grpSpPr>
        <p:sp>
          <p:nvSpPr>
            <p:cNvPr id="219" name=""/>
            <p:cNvSpPr/>
            <p:nvPr/>
          </p:nvSpPr>
          <p:spPr>
            <a:xfrm>
              <a:off x="1116000" y="3284640"/>
              <a:ext cx="2665440" cy="10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1640" y="3355920"/>
              <a:ext cx="2702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7a77"/>
                  </a:solidFill>
                  <a:latin typeface="Comic Sans MS"/>
                </a:rPr>
                <a:t>eleve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148360" y="3429000"/>
            <a:ext cx="3395880" cy="1008360"/>
            <a:chOff x="5148360" y="3429000"/>
            <a:chExt cx="3395880" cy="1008360"/>
          </a:xfrm>
        </p:grpSpPr>
        <p:sp>
          <p:nvSpPr>
            <p:cNvPr id="222" name=""/>
            <p:cNvSpPr/>
            <p:nvPr/>
          </p:nvSpPr>
          <p:spPr>
            <a:xfrm>
              <a:off x="5148360" y="3429000"/>
              <a:ext cx="3382920" cy="100800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17840" y="3429000"/>
              <a:ext cx="3326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000" spc="-1" strike="noStrike">
                  <a:solidFill>
                    <a:srgbClr val="007a77"/>
                  </a:solidFill>
                  <a:latin typeface="Comic Sans MS"/>
                </a:rPr>
                <a:t>thirtee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427 -0.14028 C 0.30104 -0.51019 0.45815 -0.87985 0.53437 -0.831 C 0.61075 -0.78217 0.47309 0.12361 0.60121 0.1523 C 0.72898 0.18101 1.01579 -0.23889 1.30241 -0.6588 E">
                                      <p:cBhvr>
                                        <p:cTn id="312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86 0.13982 C 0.16285 0.20046 0.17083 0.26133 0.19653 0.33795 C 0.22222 0.41458 0.22863 0.62707 0.30885 0.59907 C 0.3894 0.57106 0.50763 0.14815 0.67846 0.16944 C 0.84911 0.19073 1.09165 0.4588 1.33383 0.72684 E">
                                      <p:cBhvr>
                                        <p:cTn id="31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4931 0.11366 -0.29861 0.22755 -0.41111 0.30718 C -0.52361 0.38726 -0.75277 0.35648 -0.67499 0.47962 C -0.59721 0.60277 -0.27084 0.82453 0.05555 1.04629 E">
                                      <p:cBhvr>
                                        <p:cTn id="32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18 0.1051 C -0.22916 -0.15 -0.43749 -0.40508 -0.58922 -0.29119 C -0.74131 -0.1773 -0.83749 0.30555 -0.93366 0.78842 E">
                                      <p:cBhvr>
                                        <p:cTn id="32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76 -0.14537 C -0.33958 -0.40741 -0.64322 -0.6692 -0.53575 -0.72868 C -0.4283 -0.78818 0.0901 -0.64559 0.60867 -0.50277 E">
                                      <p:cBhvr>
                                        <p:cTn id="32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63640" y="2421000"/>
            <a:ext cx="57150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Magic eyes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6147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050920" y="4581360"/>
            <a:ext cx="57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How many penci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-252360" y="620640"/>
            <a:ext cx="9396360" cy="3489480"/>
            <a:chOff x="-252360" y="620640"/>
            <a:chExt cx="9396360" cy="348948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-252360" y="765000"/>
              <a:ext cx="316872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0" y="620640"/>
              <a:ext cx="2523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3348000" y="3500280"/>
              <a:ext cx="2524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3059280" y="765000"/>
              <a:ext cx="2523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3203640" y="1628640"/>
              <a:ext cx="2523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0" y="3141720"/>
              <a:ext cx="25239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3276720" y="2565360"/>
              <a:ext cx="25239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9"/>
            <a:stretch/>
          </p:blipFill>
          <p:spPr>
            <a:xfrm>
              <a:off x="0" y="2276640"/>
              <a:ext cx="25239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0"/>
            <a:stretch/>
          </p:blipFill>
          <p:spPr>
            <a:xfrm>
              <a:off x="6300720" y="765000"/>
              <a:ext cx="2524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6620040" y="1700280"/>
              <a:ext cx="25239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2"/>
            <a:stretch/>
          </p:blipFill>
          <p:spPr>
            <a:xfrm>
              <a:off x="6620040" y="2565360"/>
              <a:ext cx="25239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3"/>
            <a:stretch/>
          </p:blipFill>
          <p:spPr>
            <a:xfrm>
              <a:off x="6620040" y="3500280"/>
              <a:ext cx="252396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"/>
          <p:cNvSpPr/>
          <p:nvPr/>
        </p:nvSpPr>
        <p:spPr>
          <a:xfrm>
            <a:off x="2435040" y="5375160"/>
            <a:ext cx="439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Comic Sans MS"/>
              </a:rPr>
              <a:t>Twelve penci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-216000" y="0"/>
            <a:ext cx="9360000" cy="5985000"/>
            <a:chOff x="-216000" y="0"/>
            <a:chExt cx="9360000" cy="59850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216072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826920" y="1800360"/>
              <a:ext cx="2160720" cy="20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3780000" y="2016000"/>
              <a:ext cx="216036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3995640" y="0"/>
              <a:ext cx="216072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227640" y="0"/>
              <a:ext cx="216072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5759280" y="2158920"/>
              <a:ext cx="216072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-216000" y="3816360"/>
              <a:ext cx="216072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684360" y="3816360"/>
              <a:ext cx="216036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0"/>
            <a:stretch/>
          </p:blipFill>
          <p:spPr>
            <a:xfrm>
              <a:off x="0" y="1943280"/>
              <a:ext cx="2160720" cy="20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1"/>
            <a:stretch/>
          </p:blipFill>
          <p:spPr>
            <a:xfrm>
              <a:off x="900000" y="142920"/>
              <a:ext cx="216072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2"/>
            <a:stretch/>
          </p:blipFill>
          <p:spPr>
            <a:xfrm>
              <a:off x="2916360" y="2158920"/>
              <a:ext cx="216036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3"/>
            <a:stretch/>
          </p:blipFill>
          <p:spPr>
            <a:xfrm>
              <a:off x="3203640" y="214200"/>
              <a:ext cx="216036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4"/>
            <a:stretch/>
          </p:blipFill>
          <p:spPr>
            <a:xfrm>
              <a:off x="6983280" y="142920"/>
              <a:ext cx="216072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5"/>
            <a:stretch/>
          </p:blipFill>
          <p:spPr>
            <a:xfrm>
              <a:off x="6659640" y="2230560"/>
              <a:ext cx="2160360" cy="20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6"/>
            <a:stretch/>
          </p:blipFill>
          <p:spPr>
            <a:xfrm>
              <a:off x="1692360" y="3959280"/>
              <a:ext cx="2160360" cy="20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/>
          <p:cNvSpPr/>
          <p:nvPr/>
        </p:nvSpPr>
        <p:spPr>
          <a:xfrm>
            <a:off x="3851280" y="4076640"/>
            <a:ext cx="57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How many ap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78880" y="4941720"/>
            <a:ext cx="427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Comic Sans MS"/>
              </a:rPr>
              <a:t>Fifteen app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1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050920" y="4581360"/>
            <a:ext cx="57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How many p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6560" y="5375160"/>
            <a:ext cx="36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Comic Sans MS"/>
              </a:rPr>
              <a:t>Eleven pe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79280" y="-171360"/>
            <a:ext cx="8964720" cy="4680000"/>
            <a:chOff x="179280" y="-171360"/>
            <a:chExt cx="8964720" cy="468000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1981080" y="-171360"/>
              <a:ext cx="2792520" cy="269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"/>
            <p:cNvGrpSpPr/>
            <p:nvPr/>
          </p:nvGrpSpPr>
          <p:grpSpPr>
            <a:xfrm>
              <a:off x="179280" y="85680"/>
              <a:ext cx="8964720" cy="4422960"/>
              <a:chOff x="179280" y="85680"/>
              <a:chExt cx="8964720" cy="4422960"/>
            </a:xfrm>
          </p:grpSpPr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45040" y="725400"/>
                <a:ext cx="2793960" cy="2697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4" name=""/>
              <p:cNvGrpSpPr/>
              <p:nvPr/>
            </p:nvGrpSpPr>
            <p:grpSpPr>
              <a:xfrm>
                <a:off x="179280" y="85680"/>
                <a:ext cx="8964720" cy="4422960"/>
                <a:chOff x="179280" y="85680"/>
                <a:chExt cx="8964720" cy="4422960"/>
              </a:xfrm>
            </p:grpSpPr>
            <p:pic>
              <p:nvPicPr>
                <p:cNvPr id="2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2840" y="85680"/>
                  <a:ext cx="2977920" cy="239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04840" y="631800"/>
                  <a:ext cx="2979720" cy="239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1600" y="1960560"/>
                  <a:ext cx="2978280" cy="239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9280" y="1725480"/>
                  <a:ext cx="2978280" cy="239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27760" y="554040"/>
                  <a:ext cx="2316240" cy="304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224160" y="243000"/>
                  <a:ext cx="2978280" cy="239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282920" y="2117880"/>
                  <a:ext cx="2978280" cy="239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090960" y="1882800"/>
                  <a:ext cx="2977920" cy="239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43520" y="85680"/>
                  <a:ext cx="2978280" cy="2390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6360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1763640" y="0"/>
              <a:ext cx="216396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3492360" y="0"/>
              <a:ext cx="216396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5292720" y="0"/>
              <a:ext cx="216360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6980400" y="0"/>
              <a:ext cx="216360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0" y="2060640"/>
              <a:ext cx="2163600" cy="24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1619280" y="2060640"/>
              <a:ext cx="2163600" cy="24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3348000" y="2060640"/>
              <a:ext cx="2163960" cy="24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0"/>
            <a:stretch/>
          </p:blipFill>
          <p:spPr>
            <a:xfrm>
              <a:off x="5148360" y="2060640"/>
              <a:ext cx="2163600" cy="24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1"/>
            <a:stretch/>
          </p:blipFill>
          <p:spPr>
            <a:xfrm>
              <a:off x="6835680" y="2060640"/>
              <a:ext cx="2163960" cy="24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0" y="4398840"/>
              <a:ext cx="216360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3"/>
            <a:stretch/>
          </p:blipFill>
          <p:spPr>
            <a:xfrm>
              <a:off x="1763640" y="4398840"/>
              <a:ext cx="216396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4"/>
            <a:stretch/>
          </p:blipFill>
          <p:spPr>
            <a:xfrm>
              <a:off x="3492360" y="4398840"/>
              <a:ext cx="2163960" cy="245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/>
          <p:cNvSpPr/>
          <p:nvPr/>
        </p:nvSpPr>
        <p:spPr>
          <a:xfrm>
            <a:off x="0" y="4292640"/>
            <a:ext cx="759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How many watermel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8120" y="5157720"/>
            <a:ext cx="469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Comic Sans MS"/>
              </a:rPr>
              <a:t>Thirteen app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476280"/>
            <a:ext cx="8580600" cy="4375080"/>
            <a:chOff x="0" y="476280"/>
            <a:chExt cx="8580600" cy="43750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44360" y="476280"/>
              <a:ext cx="3035520" cy="22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2879640" y="620640"/>
              <a:ext cx="3035520" cy="228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4"/>
            <a:stretch/>
          </p:blipFill>
          <p:spPr>
            <a:xfrm>
              <a:off x="5545080" y="763560"/>
              <a:ext cx="3035520" cy="22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0" y="2563920"/>
              <a:ext cx="3035160" cy="228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3422520" y="3933720"/>
            <a:ext cx="572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How many banan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9320" y="4869000"/>
            <a:ext cx="52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Comic Sans MS"/>
              </a:rPr>
              <a:t>Twelve ban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404640"/>
            <a:ext cx="9144000" cy="5951880"/>
            <a:chOff x="0" y="404640"/>
            <a:chExt cx="9144000" cy="5951880"/>
          </a:xfrm>
        </p:grpSpPr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0" y="404640"/>
              <a:ext cx="32004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6012000" y="4292640"/>
              <a:ext cx="3132000" cy="20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6084720" y="404640"/>
              <a:ext cx="3059280" cy="27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0" y="3716280"/>
              <a:ext cx="3132000" cy="26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2916360" y="2276640"/>
              <a:ext cx="3333600" cy="24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 txBox="1"/>
          <p:nvPr/>
        </p:nvSpPr>
        <p:spPr>
          <a:xfrm>
            <a:off x="324000" y="1916280"/>
            <a:ext cx="856908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50000"/>
                    </a:srgbClr>
                  </a:outerShdw>
                </a:effectLst>
                <a:latin typeface="Comic Sans MS"/>
              </a:rPr>
              <a:t>Delicious Food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0"/>
            <a:ext cx="7974000" cy="55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教学目标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正确说出水果名称，并能就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Ｗ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hat do you lik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出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听懂、会说并认读单词：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eleven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thirteen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fif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能与名词复数搭配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What’s missing”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What do you see”,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Ｍ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gic ey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丰富多彩的游戏活动中，激发学习兴趣，提高学习积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在老师的帮助下唱本课歌曲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licious Foo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26920" y="692280"/>
            <a:ext cx="7058160" cy="42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Comic Sans MS"/>
              </a:rPr>
              <a:t>Practice</a:t>
            </a:r>
            <a:endParaRPr b="1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5493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Comic Sans MS"/>
              </a:rPr>
              <a:t>fru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6237360"/>
            <a:ext cx="2233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4521240"/>
            <a:ext cx="3240360" cy="1695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4437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86900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Comic Sans MS"/>
              </a:rPr>
              <a:t>an </a:t>
            </a:r>
            <a:r>
              <a:rPr b="0" lang="zh-CN" sz="6000" spc="-1" strike="noStrike">
                <a:solidFill>
                  <a:srgbClr val="333399"/>
                </a:solidFill>
                <a:latin typeface="Comic Sans MS"/>
              </a:rPr>
              <a:t>ap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54360" y="0"/>
            <a:ext cx="4589640" cy="43610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5651640" y="4454640"/>
            <a:ext cx="2683440" cy="1638360"/>
            <a:chOff x="5651640" y="4454640"/>
            <a:chExt cx="2683440" cy="163836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5651640" y="4454640"/>
              <a:ext cx="259236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95280" y="4797360"/>
              <a:ext cx="253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6000" spc="-1" strike="noStrike">
                  <a:solidFill>
                    <a:srgbClr val="333399"/>
                  </a:solidFill>
                  <a:latin typeface="Comic Sans MS"/>
                </a:rPr>
                <a:t>apple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314960"/>
            <a:ext cx="3382920" cy="199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4500720" cy="424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4869000"/>
            <a:ext cx="44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Comic Sans MS"/>
              </a:rPr>
              <a:t>an </a:t>
            </a:r>
            <a:r>
              <a:rPr b="0" lang="zh-CN" sz="6000" spc="-1" strike="noStrike">
                <a:solidFill>
                  <a:srgbClr val="333399"/>
                </a:solidFill>
                <a:latin typeface="Comic Sans MS"/>
              </a:rPr>
              <a:t>or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1767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5724360" y="4330800"/>
            <a:ext cx="3319560" cy="1619280"/>
            <a:chOff x="5724360" y="4330800"/>
            <a:chExt cx="3319560" cy="1619280"/>
          </a:xfrm>
        </p:grpSpPr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5724360" y="4330800"/>
              <a:ext cx="324036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922000" y="4653000"/>
              <a:ext cx="312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6000" spc="-1" strike="noStrike">
                  <a:solidFill>
                    <a:srgbClr val="333399"/>
                  </a:solidFill>
                  <a:latin typeface="Comic Sans MS"/>
                </a:rPr>
                <a:t>orange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31480" y="0"/>
            <a:ext cx="497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what colour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9640" y="981000"/>
            <a:ext cx="29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0" lang="zh-CN" sz="4000" spc="-1" strike="noStrike">
                <a:solidFill>
                  <a:srgbClr val="3333ff"/>
                </a:solidFill>
                <a:latin typeface="Comic Sans MS"/>
              </a:rPr>
              <a:t>orange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16360" cy="424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71640" y="4524480"/>
            <a:ext cx="2663640" cy="1569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356000" y="260280"/>
            <a:ext cx="4330800" cy="4392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58120" y="4797360"/>
            <a:ext cx="24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Comic Sans MS"/>
              </a:rPr>
              <a:t>a p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508720" y="4724280"/>
            <a:ext cx="2455920" cy="1479600"/>
            <a:chOff x="5508720" y="4724280"/>
            <a:chExt cx="2455920" cy="1479600"/>
          </a:xfrm>
        </p:grpSpPr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5508720" y="4724280"/>
              <a:ext cx="244944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775120" y="4979880"/>
              <a:ext cx="2189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6000" spc="-1" strike="noStrike">
                  <a:solidFill>
                    <a:srgbClr val="333399"/>
                  </a:solidFill>
                  <a:latin typeface="Comic Sans MS"/>
                </a:rPr>
                <a:t>pea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4524480"/>
            <a:ext cx="3384360" cy="1569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50480" y="4797360"/>
            <a:ext cx="35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Comic Sans MS"/>
              </a:rPr>
              <a:t>a bana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19640" y="4653000"/>
            <a:ext cx="3402000" cy="1479600"/>
            <a:chOff x="5219640" y="4653000"/>
            <a:chExt cx="3402000" cy="147960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5219640" y="4653000"/>
              <a:ext cx="324000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379120" y="4908600"/>
              <a:ext cx="324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6000" spc="-1" strike="noStrike">
                  <a:solidFill>
                    <a:srgbClr val="333399"/>
                  </a:solidFill>
                  <a:latin typeface="Comic Sans MS"/>
                </a:rPr>
                <a:t>banana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46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716360" y="189000"/>
            <a:ext cx="44276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4788000" cy="1871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032360" cy="397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4869000"/>
            <a:ext cx="53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Comic Sans MS"/>
              </a:rPr>
              <a:t>a watermel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4500360" cy="39672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757760" y="4280040"/>
            <a:ext cx="4394520" cy="2181240"/>
            <a:chOff x="4757760" y="4280040"/>
            <a:chExt cx="4394520" cy="2181240"/>
          </a:xfrm>
        </p:grpSpPr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5003640" y="4280040"/>
              <a:ext cx="41403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757760" y="5013360"/>
              <a:ext cx="439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5400" spc="-1" strike="noStrike">
                  <a:solidFill>
                    <a:srgbClr val="333399"/>
                  </a:solidFill>
                  <a:latin typeface="Comic Sans MS"/>
                </a:rPr>
                <a:t>watermelon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 flipV="1">
            <a:off x="3352680" y="304920"/>
            <a:ext cx="7632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3384720" cy="2637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117000" y="0"/>
            <a:ext cx="480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hat do you lik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 like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>
            <a:alphaModFix amt="60000"/>
          </a:blip>
          <a:srcRect l="9679" t="9840" r="16593" b="16564"/>
          <a:stretch/>
        </p:blipFill>
        <p:spPr>
          <a:xfrm>
            <a:off x="5292720" y="4699080"/>
            <a:ext cx="2376360" cy="215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735280" cy="3024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1413000"/>
            <a:ext cx="3149640" cy="28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012000" y="1413000"/>
            <a:ext cx="29876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8T09:57:58Z</dcterms:created>
  <dc:creator>微软用户</dc:creator>
  <dc:description/>
  <dc:language>en-US</dc:language>
  <cp:lastModifiedBy>acer1</cp:lastModifiedBy>
  <dcterms:modified xsi:type="dcterms:W3CDTF">2015-09-24T02:56:09Z</dcterms:modified>
  <cp:revision>90</cp:revision>
  <dc:subject/>
  <dc:title>幻灯片 1</dc:title>
</cp:coreProperties>
</file>